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7557-B5C4-4574-8A8B-8D4769B1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1FE-9402-422A-94AB-DF980C08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432-255B-4CF4-BD6C-BB627873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BD4-F87E-4A69-8BC1-F8C83430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238-4554-4546-B51F-6F0AD365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AB3-5F7D-4327-92C8-44155A9E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C82-FC48-4BA1-B8C6-E58BB462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DC3-A5AD-486A-87A3-C702F153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FCD-FDA5-4B27-B8F2-6EB33DB3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8EF-76F1-48A7-879F-8EE6AA1E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B3E-4992-413B-812F-F0FB5400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F6E-9B9F-40E9-9138-A49DACDE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7975-6790-47C5-AD27-7FD623BA3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09800" y="725400"/>
            <a:ext cx="7124400" cy="477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077680" y="6324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g. 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25400"/>
            <a:ext cx="7162560" cy="477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077680" y="6324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g. 5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4960" y="318960"/>
            <a:ext cx="7534080" cy="622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077680" y="6324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g. 5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85680" y="1368360"/>
            <a:ext cx="7172640" cy="4743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077680" y="6324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g. 5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5400" y="1339920"/>
            <a:ext cx="715320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077680" y="6324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g. 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08:35:50Z</dcterms:created>
  <dc:creator>Gian Piero Deidda</dc:creator>
  <dc:description/>
  <dc:language>en-US</dc:language>
  <cp:lastModifiedBy>Gian Piero Deidda</cp:lastModifiedBy>
  <dcterms:modified xsi:type="dcterms:W3CDTF">2003-03-26T09:08:47Z</dcterms:modified>
  <cp:revision>3</cp:revision>
  <dc:subject/>
  <dc:title>Presentazione di PowerPoint</dc:title>
</cp:coreProperties>
</file>