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2C9-8598-4838-B75C-4BFC7E0E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8ED-78A9-44A5-9C8F-720AF3A4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DA8-7069-43D4-82AB-9220685E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9E6-BC25-4F2E-90FD-BB017897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005-67F0-4838-A8D6-01704942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E8B-8137-469D-B6FC-3AB29721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146-58E9-4BE8-BE04-17F883A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5BB-3AA1-4B18-93AA-AB772BB2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79F-FA18-41D7-B31F-A478E803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F0C-393E-4253-AEB5-A7F17E1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6D4-1379-474C-936A-587CF01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34A-EEF3-4AA3-9F3F-7B511D4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560" indent="-4287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04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fld id="{FBF8D4A8-ABA1-4483-802C-7FAFE0B5C889}" type="slidenum"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0080" y="1371600"/>
            <a:ext cx="14001840" cy="671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07080" y="105156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63680" y="1676520"/>
            <a:ext cx="13273200" cy="641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83400" y="106678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71440" y="1981080"/>
            <a:ext cx="13657320" cy="609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83400" y="1059192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8:50:21Z</dcterms:created>
  <dc:creator>Gian Piero Deidda</dc:creator>
  <dc:description/>
  <dc:language>en-US</dc:language>
  <cp:lastModifiedBy>Gian Piero Deidda</cp:lastModifiedBy>
  <dcterms:modified xsi:type="dcterms:W3CDTF">2003-03-26T09:09:51Z</dcterms:modified>
  <cp:revision>2</cp:revision>
  <dc:subject/>
  <dc:title>Presentazione di PowerPoint</dc:title>
</cp:coreProperties>
</file>